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F99-4DFE-49C1-BC31-46CE42DB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CA1-FE9D-4C2E-89EC-30F268D9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623-0678-46D8-9DD3-D7EF42F0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0CC-03E3-4FE8-8ED3-41F9BE36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B9D-5686-4207-A8BF-1A834093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30D-B768-4ABB-A943-40474ABB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DEA-E151-4200-AC98-01133969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60E-EE63-4E85-8953-ECDFC28F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F30-95AE-4AF7-8414-25B9FF33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FDC-356C-4722-A0C3-35B911A2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931-B774-4E56-A4BB-EA1C8BD7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334-CD58-4A20-B651-0A73E2D6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ACE8-F121-43F3-9991-5AB06DB4A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900igr.net/up/datai/198946/0009-008-.jpg" TargetMode="External"/><Relationship Id="rId2" Type="http://schemas.openxmlformats.org/officeDocument/2006/relationships/hyperlink" Target="https://avatars.mds.yandex.net/get-pdb/1979207/f9159ddf-05c2-4854-bdee-a14166bc915b/s1200" TargetMode="External"/><Relationship Id="rId3" Type="http://schemas.openxmlformats.org/officeDocument/2006/relationships/hyperlink" Target="https://avatars.mds.yandex.net/get-zen_doc/175604/pub_5c1a35f22c117100aea00c22_5c1a3608ea7bd400aa320a1e/scale_1200" TargetMode="External"/><Relationship Id="rId4" Type="http://schemas.openxmlformats.org/officeDocument/2006/relationships/hyperlink" Target="https://ph0.qna.center/storage/photos/grande36/1323552.jpg" TargetMode="External"/><Relationship Id="rId5" Type="http://schemas.openxmlformats.org/officeDocument/2006/relationships/hyperlink" Target="https://pbs.twimg.com/media/DU5kCLeW4AAH5VM.jpg" TargetMode="External"/><Relationship Id="rId6" Type="http://schemas.openxmlformats.org/officeDocument/2006/relationships/hyperlink" Target="https://ic.pics.livejournal.com/d_chebatkov/49326313/23001/original.jpg" TargetMode="External"/><Relationship Id="rId7" Type="http://schemas.openxmlformats.org/officeDocument/2006/relationships/hyperlink" Target="https://img2.gorod.lv/images/news_item_in_cifs/pic/286152/big/_____________2.jpg?v=1506838450" TargetMode="External"/><Relationship Id="rId8" Type="http://schemas.openxmlformats.org/officeDocument/2006/relationships/hyperlink" Target="https://img-fotki.yandex.ru/get/6706/132639772.d2/0_bea2b_95118382_XXL.jpg" TargetMode="External"/><Relationship Id="rId9" Type="http://schemas.openxmlformats.org/officeDocument/2006/relationships/hyperlink" Target="https://ds05.infourok.ru/uploads/ex/1274/000a5f2b-17271971/img4.jpg" TargetMode="External"/><Relationship Id="rId10" Type="http://schemas.openxmlformats.org/officeDocument/2006/relationships/hyperlink" Target="http://astro.kh.ua/wp-content/uploads/2012/11/Anna_of_Russia_Hermitage.jpg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5292720" y="2205000"/>
            <a:ext cx="360036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казе императрицы Екатерин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казано: 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«На улицах ямщикам ни в коем разе не кричать, не свистеть, не звенеть и не бренча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770360" cy="6021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343080" y="189000"/>
            <a:ext cx="85309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ека появились первые «самодвижущиеся повозки» – автомоб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16000" y="5661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здили они очень медленно и вызывали у многих критику и насм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450720" y="1177920"/>
            <a:ext cx="8315280" cy="43243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216000" y="189000"/>
            <a:ext cx="878508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в Англии ввели правило, по которому впереди каждого автомобиля должен был идти человек с красным флагом или фонарём и предупреждать встречные кареты и вса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1639800" y="1557360"/>
            <a:ext cx="5937480" cy="50385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8"/>
          <p:cNvSpPr/>
          <p:nvPr/>
        </p:nvSpPr>
        <p:spPr>
          <a:xfrm>
            <a:off x="216000" y="189000"/>
            <a:ext cx="8785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рость движения не должна была превышать 3 км/ч. Кроме того, водителям запрещалось подавать предупредительные сигн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390600" y="1773360"/>
            <a:ext cx="8435880" cy="46098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такие были правила: не свисти, не дыши и ползи как черепа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1373040" y="1268280"/>
            <a:ext cx="6470640" cy="53866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, несмотря ни на что, автомобилей становилось всё больше и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1098720" y="1268280"/>
            <a:ext cx="7019640" cy="52657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93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о Франции появились первые правила для автомобили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16000" y="580536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ачала в разных странах были разные правила. Но это было очень неудоб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1135080" y="1200240"/>
            <a:ext cx="6946920" cy="4429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8"/>
          <p:cNvSpPr/>
          <p:nvPr/>
        </p:nvSpPr>
        <p:spPr>
          <a:xfrm>
            <a:off x="216000" y="189000"/>
            <a:ext cx="8785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909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Международной конференции в Париже была принята Конвенция по автомобильному движению, которая установила единые правила для всех стр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16000" y="580536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Конвенция ввела первые дорожные знаки, установила обязанности водителей и пеше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1378080" y="1622520"/>
            <a:ext cx="6460920" cy="39402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8"/>
          <p:cNvSpPr/>
          <p:nvPr/>
        </p:nvSpPr>
        <p:spPr>
          <a:xfrm>
            <a:off x="216000" y="189000"/>
            <a:ext cx="8785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ременным правилам дорожного движени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олее 10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704960" y="1052640"/>
            <a:ext cx="5807160" cy="54608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0" y="115920"/>
            <a:ext cx="91440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  <a:ea typeface="Calibri"/>
              </a:rPr>
              <a:t>Использованные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http://900igr.net/up/datai/198946/0009-008-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https://avatars.mds.yandex.net/get-pdb/1979207/f9159ddf-05c2-4854-bdee-a14166bc915b/s12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https://avatars.mds.yandex.net/get-zen_doc/175604/pub_5c1a35f22c117100aea00c22_5c1a3608ea7bd400aa320a1e/scale_12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https://ph0.qna.center/storage/photos/grande36/132355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https://pbs.twimg.com/media/DU5kCLeW4AAH5VM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6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6"/>
              </a:rPr>
              <a:t>https://ic.pics.livejournal.com/d_chebatkov/49326313/23001/original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7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7"/>
              </a:rPr>
              <a:t>https://img2.gorod.lv/images/news_item_in_cifs/pic/286152/big/_____________2.jpg?v=15068384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8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8"/>
              </a:rPr>
              <a:t>https://img-fotki.yandex.ru/get/6706/132639772.d2/0_bea2b_95118382_XXL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9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9"/>
              </a:rPr>
              <a:t>https://ds05.infourok.ru/uploads/ex/1274/000a5f2b-17271971/img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0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0"/>
              </a:rPr>
              <a:t>http://astro.kh.ua/wp-content/uploads/2012/11/Anna_of_Russia_Hermitag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://dimitri.moseparh.ru/files/2019/05/IMG_409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ds05.infourok.ru/uploads/ex/07fa/00036359-5b9f6186/hello_html_m193d6f3b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s1.1zoom.me/b5050/93/217317-stranger_1400x105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4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://wideworld.ru/admin/images/10002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5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i.pinimg.com/originals/cb/8a/2c/cb8a2c0f68b51224569a794a9da886ac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http://zenit-ufa.ru/sites/default/files/custom_files/images/news/pd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-3240" y="1989000"/>
            <a:ext cx="9144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9900"/>
                </a:solidFill>
                <a:latin typeface="Monotype Corsiva"/>
                <a:ea typeface="Calibri"/>
              </a:rPr>
              <a:t>История появления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9900"/>
                </a:solidFill>
                <a:latin typeface="Monotype Corsiva"/>
                <a:ea typeface="Calibri"/>
              </a:rPr>
              <a:t>правил дорожного движе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ло время, когда по улицам и дорогам ездили лишь всадники верхом на лошадях, колесницы и конные пово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16000" y="6093000"/>
            <a:ext cx="8785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можно считать первыми транспортны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2556000" y="1225440"/>
            <a:ext cx="4319640" cy="4721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здили они, не соблюдая никаких правил, и поэтому нередко сталкивались друг с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avatars.mds.yandex.net/get-pdb/1979207/f9159ddf-05c2-4854-bdee-a14166bc915b/s1200"/>
          <p:cNvPicPr/>
          <p:nvPr/>
        </p:nvPicPr>
        <p:blipFill>
          <a:blip r:embed="rId1"/>
          <a:stretch/>
        </p:blipFill>
        <p:spPr>
          <a:xfrm>
            <a:off x="2155680" y="1268280"/>
            <a:ext cx="4905360" cy="52326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ицы городов в те времена обычно были узкими, а дороги извилистыми и ухабис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s://avatars.mds.yandex.net/get-zen_doc/175604/pub_5c1a35f22c117100aea00c22_5c1a3608ea7bd400aa320a1e/scale_1200"/>
          <p:cNvPicPr/>
          <p:nvPr/>
        </p:nvPicPr>
        <p:blipFill>
          <a:blip r:embed="rId1"/>
          <a:stretch/>
        </p:blipFill>
        <p:spPr>
          <a:xfrm>
            <a:off x="955800" y="1341360"/>
            <a:ext cx="7305480" cy="5058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216000" y="189000"/>
            <a:ext cx="8785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ло ясно, что нужно упорядочить движение по улицам и дорогам, т.е. изобрести правила, которые сделали бы движение по ним удобным и безопас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534520" cy="43066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правила дорожного движения появились боле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000 ле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ад, ещё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и Юлии Цезар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16000" y="6093000"/>
            <a:ext cx="8785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помогали регулировать движение по улицам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rcRect l="15350" t="37402" r="14563" b="0"/>
          <a:stretch/>
        </p:blipFill>
        <p:spPr>
          <a:xfrm>
            <a:off x="1405080" y="1413000"/>
            <a:ext cx="6406920" cy="4294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8"/>
          <p:cNvSpPr/>
          <p:nvPr/>
        </p:nvSpPr>
        <p:spPr>
          <a:xfrm>
            <a:off x="216000" y="189000"/>
            <a:ext cx="8785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ые из этих правил дошли до наших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6000" y="580536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уже в те времена на многих улицах было разрешено только одностороннее дви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354720" cy="47354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и дорожное движение регулировалось царскими ук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16000" y="1916280"/>
            <a:ext cx="3924360" cy="448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казе императрицы Анны Иоановны от 1730 года говорилось: 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«Извозчикам и прочим всяких чинов людям ездить, имея лошадей в упряжи, со всяким опасением и осторожностью, смирно. А тех, кто не будет соблюдать сих правил, - бить кнутом и ссылать на каторг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4427640" y="1171440"/>
            <a:ext cx="4425840" cy="5535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7:43:07Z</dcterms:created>
  <dc:creator>user</dc:creator>
  <dc:description/>
  <dc:language>en-US</dc:language>
  <cp:lastModifiedBy>Алла Полупанова</cp:lastModifiedBy>
  <dcterms:modified xsi:type="dcterms:W3CDTF">2021-03-16T17:35:03Z</dcterms:modified>
  <cp:revision>151</cp:revision>
  <dc:subject/>
  <dc:title>Слайд 1</dc:title>
</cp:coreProperties>
</file>